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19935-F40E-415C-B74E-B9E5CACEB9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s in this slide will not work, were here as a reminder to prese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E5F9-9A54-4BB3-B6BE-19771B42E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7736-1F7D-45EC-B233-D34B2F452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FF84-84E7-4FCF-8908-44CCE714E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FAC0-B453-4977-9464-2D31F991A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C97D9-F47D-40DA-B7B0-98FCE54DC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DA584-6A62-47A0-9625-24C65D76C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47EBF-C200-49D7-B682-3AE39209B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919B4-3378-4D4B-9E4A-DE7CCDD93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67F38-CA5C-4E5D-9CEC-4E85BF239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13DE3-5A91-4D20-94B0-A9F1D2296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E6D04-C3DA-44D5-8E44-D03FA5A7E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C471-CFCE-4A98-ABD6-FA112351C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F9BA3-96A7-4917-BED8-D6B5BE624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3FB5F-559B-47CE-8D2E-F84A874C6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B0092-A79B-4DDE-9075-D635679A3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6ECC8-7781-40E1-81FA-24BEBB532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39670-D582-48A4-B314-96DBFF068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E75B-8900-40E0-936F-77558745E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4B5C-3DAD-4B1A-9F69-F15F078B4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CC9E-0419-4A8F-83B8-E30DD9197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EB47-5B5B-4121-A524-29C999D9F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D302-299D-4BB7-A03D-93A8A4764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6C0B-8D94-4C15-90C8-A90570F64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405B-D083-47B9-AEA5-0C759AC2C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CCA3F-2F92-4219-9720-6BFC913E39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F7EAA-07FF-4A82-BD05-FB34A77496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anger.ac.uk/genetics/CGP/cosmic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cgp-gbrowse.internal.sanger.ac.uk/mgb2/gbrowse/COLO-829/?start=140099580;stop=140099660;ref=7;width=800;version=100;flip=0;grid=on;id=0a3149f19297add05e7c13c8700dd1c0;label=http_deskpro14284.dynamic.sanger.ac.uk_9000_das_cosmic_mutations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cgp-gbrowse.internal.sanger.ac.uk/mgb2/gbrowse/PD3991/?start=43536896;stop=43536920;ref=5;width=1024;version=100;flip=0;grid=1;id=0a3149f19297add05e7c13c8700dd1c0;label=CMAN-Reads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Use of GBrowse 1.999 in the Cancer Genome Projec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iran Ra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cer Genome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come Trust Sanger Instit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2@sanger.ac.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olegenome dat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s are random but size sel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detect rearran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 depth, high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s much lo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browse needs to work with 2x100GB files…. It does it 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cknowledgmen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nger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cerIT (CGP it grou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frequent respondents to my proble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coln S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ott C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s to all on the Gbrowse mailing list for putting up with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rief history of the CG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MIC - DAS vs. GFF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Gen pitf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ome ~ 5GB BAM x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legenome ~ 100GB BAM x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 brief history of CGP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in 2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screening metho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rodupl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illary sequen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mina Next 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2004 </a:t>
            </a:r>
            <a:r>
              <a:rPr b="0" lang="en-US" sz="32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COSM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came a public re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 brief history of CGP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447920" y="1676520"/>
          <a:ext cx="6858000" cy="426060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</a:tblGrid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troduplex screening with capillary confirm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IT staf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/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illary sequenc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IT staff CSA develop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/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xt Gen with capillary confirm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IT staf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ne day in a meeting…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are we going to view next gen seq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-12 months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hanc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hink about it, can we have a solution within the mon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Browse2 w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SMIC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alogue Of Somatic Mutations In Can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base available to all as downl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your own front 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S currently being updated to latest spec to maintain Ensembl draw functional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SMIC - DAS vs. GFF3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</a:t>
            </a:r>
            <a:r>
              <a:rPr b="0" lang="en-US" sz="32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D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orks in GBrowse2 (is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search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lly showing confirmed variations via GFF3 in GBrowse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vial to provide GFF3 ex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probably include config for GBrowse2 as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AS data in COS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ome Next Gen blooper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get human ref seq from Ensembl to use for map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has PAR regions masked to ‘n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artificially make reads map uniqu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your MT sequence carefu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bank has recently been updated to show the correct se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iously was sequence for a small village in Africa (will not make it into Ensembl for a while due to build cyc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xome dat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rgeted to ex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depth, low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ck (few lanes need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Works 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5T13:54:02Z</dcterms:created>
  <dc:creator>Sanger Institute</dc:creator>
  <dc:description/>
  <dc:language>en-US</dc:language>
  <cp:lastModifiedBy>Sanger Institute</cp:lastModifiedBy>
  <dcterms:modified xsi:type="dcterms:W3CDTF">2010-01-15T19:17:26Z</dcterms:modified>
  <cp:revision>8</cp:revision>
  <dc:subject/>
  <dc:title>Use of GBrowse 1.999 in the Cancer Genome Project</dc:title>
</cp:coreProperties>
</file>